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C90-F523-4C31-A525-EE6EDF08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8E0-6981-4AEB-AC42-6AC1F550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CED-688E-4367-9641-78834BDE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A53-992D-4359-843C-C46877C3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7189-3664-425F-8199-9CB57472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D3B4-7ACC-42AD-9EA3-A7286FC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6141-B2A2-46F3-8415-8ED98D08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2E08-4446-4CEC-8B7C-C947B666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351B-B68A-4065-B887-696B611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E04F-3962-45DF-A1BE-32139213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7D9D-1BDE-4C34-8F42-CD55B26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510-03FB-4180-AD5F-A7F1DAD6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45C7-BC7A-41BB-B9F2-67B6A5FB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ECB5-2235-4065-B52A-3347E943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6003-CA56-4564-975B-593D10A3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2317-F631-4AB2-A691-8CB6D088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D6A0-5355-487E-A576-CE1A3093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29A-1352-4920-A8FB-565DE89F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325-B295-4F54-99FC-520205F1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A09-7DF6-49C2-A665-CF413751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08C-EC25-46AD-B506-B162513A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7EC-6B5D-48D0-A411-4E37AB5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268-773D-458E-BEB8-246F346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2CF-30C1-424A-9BAF-974838E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1123-E75A-44B6-9FA4-D38D2F7A98C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C5A7-D118-458C-BBE9-D7D0BDF628D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metownradio.com/blog/new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38480" y="838080"/>
            <a:ext cx="4724640" cy="4648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mproving Health Conditions at the Farmington Fai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: Kayleigh Chase, Hattie Laliberte, Rachel Lamblin, and Nyari Patters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358128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2286000" y="1905120"/>
            <a:ext cx="2209680" cy="2895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905120"/>
            <a:ext cx="2209680" cy="2895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952880"/>
            <a:ext cx="42674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447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ulation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6 Step Framework for Program Evalu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age the Stakehol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cribe the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cus the Evaluation Desig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ather Credible Evi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stify Conclu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sure Use and Share Lessons Learn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racteristics of the Common Ground Fai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hibitors with a healthy foc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l and healthy food vend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ers and demonstrations on topics including physical activity, organic agriculture, and energy ef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k r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g picture: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  <a:hlinkClick r:id="rId2"/>
              </a:rPr>
              <a:t>http://hometownradio.com/blog/new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on Ground Fair info: http://www.mofga.org/TheFair/tabid/135/Default.asp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7:40:30Z</dcterms:created>
  <dc:creator>Rachel Lamblin</dc:creator>
  <dc:description/>
  <dc:language>en-US</dc:language>
  <cp:lastModifiedBy>Rachel Lamblin</cp:lastModifiedBy>
  <dcterms:modified xsi:type="dcterms:W3CDTF">2010-12-06T22:24:37Z</dcterms:modified>
  <cp:revision>3</cp:revision>
  <dc:subject/>
  <dc:title>Improving Health Conditions at the Farmington Fair</dc:title>
</cp:coreProperties>
</file>